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26B-3F9D-428D-9AC7-5DE3D038B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F9DE-B28A-4888-B2C0-18ED83E85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46EF-91F6-4519-8E38-413198512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843E-F4C2-444D-949A-BFC60CEC1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ACB56-BDAF-4C83-B296-52E39C1FC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3A75-7188-4338-876E-827FA84D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05C95-0373-4DF4-BA66-00E9B2604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0BF32-528F-4A3D-9689-D5DA2EFE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35336-BC59-462E-B941-AA9662D18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F7018-81D6-41D8-A68F-512B495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196FB-9102-41E3-9940-9C2C505D5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AD06-D46E-4C48-AE5D-F47618EDA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59CC1-8314-4EC4-A4DB-69258465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0ED38-9897-46DD-9952-5C7A95C0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B61CE-8C46-475D-8284-52FA7EDB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5EF0-577E-4594-8469-474847659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6F7F5-4B49-4CC0-B471-4D7FA42BE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05B7-6A22-4DD6-BCED-5698D7DF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334C-746C-4CC6-87EA-6A75D222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DBF5-23DA-4DB9-982E-7073F31D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1171-193E-4630-A825-0E2C35D96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9808-7F54-425F-9948-1AA4DE03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46B-2BE5-4EFD-AF52-284BCC30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F96B-AE8B-43C6-B77B-D67B5900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6D32-ED18-4BED-9E24-C49F78FEC4F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48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3B902-8224-43E1-8FEE-D8626A0BCB7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rench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d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an War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0574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754 -176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and Indian War  was fought against England and the American Colonies and against the French and some Native Americans that lived in that are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756 the war erupted into the world-wide conflict known as the Seven Years' War and thus came to be regarded as the North American theater of that wa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n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rench and Indian war was fought from 1754 to 1763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er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gh the war was mainly against Great Britain and the French. The American colonies played host to this w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ench troops from Canada marched south; they overtook Ohio Valley. The British didn’t want the French troops there because they claimed Ohio for themselv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de By:</a:t>
            </a:r>
            <a:br>
              <a:rPr sz="3400"/>
            </a:b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aggie Frank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arah Parker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chael Bar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20T23:09:04Z</dcterms:created>
  <dc:creator>Patty</dc:creator>
  <dc:description/>
  <dc:language>en-US</dc:language>
  <cp:lastModifiedBy>Patty</cp:lastModifiedBy>
  <dcterms:modified xsi:type="dcterms:W3CDTF">2010-12-21T21:52:13Z</dcterms:modified>
  <cp:revision>3</cp:revision>
  <dc:subject/>
  <dc:title>The French  and  Indian War </dc:title>
</cp:coreProperties>
</file>